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0.wmf" ContentType="image/x-wmf"/>
  <Override PartName="/ppt/media/image18.gif" ContentType="image/gif"/>
  <Override PartName="/ppt/media/image3.wmf" ContentType="image/x-wmf"/>
  <Override PartName="/ppt/media/image21.wmf" ContentType="image/x-wmf"/>
  <Override PartName="/ppt/media/image19.wmf" ContentType="image/x-wmf"/>
  <Override PartName="/ppt/media/image16.gif" ContentType="image/gif"/>
  <Override PartName="/ppt/media/image1.wmf" ContentType="image/x-wmf"/>
  <Override PartName="/ppt/media/image17.gif" ContentType="image/gif"/>
  <Override PartName="/ppt/media/image2.wmf" ContentType="image/x-wmf"/>
  <Override PartName="/ppt/media/image15.gif" ContentType="image/gif"/>
  <Override PartName="/ppt/media/image1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017-3C24-4253-9924-235A8C840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0B23-A660-4F51-BB83-F33BA2AF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E7D7-D5EB-45C3-98F4-3C37397AB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D694-F83D-47E5-A4EF-7C3217CC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F1BE-E60B-4CBE-80DD-65DE44A9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5C4D-5F17-48EF-B456-5440B607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9536-153B-4F48-BACC-B191F27F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8F85B-AF88-4751-9C9D-842E0D9D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4A91-C3AB-479B-ADB0-6D8D3CA9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F52F-AD18-4F57-97B2-D2C5E4274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634B-9C9B-44EB-9C47-B6B4F3D8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C69D-D7E5-45EC-AF5C-2926E433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A2FC-5141-4428-94E0-B533C0A4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9757-B87D-4DFF-8B2B-1A99A93C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F6502-C9BE-49D9-9D78-3175920A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1418-4E53-4BF4-9ECE-5742E37E0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5015-A481-49CE-BAAA-BE3B2FB8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CD7E-5D31-4444-A9DF-CA8BF26F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C710-9087-46A8-BF91-31D1BBF06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5CFD-2121-40B0-93DD-22C33B90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10D2-F189-4E93-9C15-0FC7241F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639C-266F-4423-8D47-E41C7920C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336-D40A-4979-95AA-46C85923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1E9A-6F56-4351-AD21-95C754DD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1FB0F-03C2-4F9E-9FBD-2357A5E0A0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3D909-0DD0-4073-B5FC-0CBBA71477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My Muscular System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muscles move my b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strings move a pupp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010280" y="1447920"/>
            <a:ext cx="1719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did you learn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n your journal, write three sentences about what you learned about the muscular syst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orks Cited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 Body:  Teacher Create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arta Encyclop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oft Cli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The muscular system is made up of…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end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w many muscles do I have?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about 650 muscles in my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 muscles make up half of my body we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??  How much do your muscles wei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94320" y="2362320"/>
            <a:ext cx="267336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My muscles are important because they…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my organs i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my bones together so that I can m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me chew my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nd close my eye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mp my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me to run and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me to smi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029200" y="1676520"/>
            <a:ext cx="164772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010280" y="358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6264360" y="4038480"/>
            <a:ext cx="2879640" cy="1609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4114800" y="4343400"/>
            <a:ext cx="16318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35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Did you know?????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takes more muscles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ow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 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mi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944960" y="3887640"/>
            <a:ext cx="1989360" cy="21891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95880" y="1523880"/>
            <a:ext cx="2003400" cy="20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re muscles made of?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tretchy, elastic cells and fib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is stretchy like a musc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326280" y="2057400"/>
            <a:ext cx="2131920" cy="40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y do I need tendon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ons attach my muscles to my bone helping my body m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el your tendon right abo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heel in the back of you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the thickest tendon in your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143000" y="2895480"/>
            <a:ext cx="2162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ry Thi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One way to keep my muscles strong…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t foods from the meat group every day.  They are high in protein which helps to build strong musc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some foods that are high in prote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1828800" cy="1136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7391520" y="2133720"/>
            <a:ext cx="1218960" cy="861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800600" y="3200400"/>
            <a:ext cx="1828800" cy="1400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6781680" y="3352680"/>
            <a:ext cx="1846440" cy="1405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181480" y="4876920"/>
            <a:ext cx="247500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Another way to keep strong muscles…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rcise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are some things you can do every day to help keep your muscular system healt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553080" y="44956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3520" y="4437000"/>
            <a:ext cx="2057400" cy="1965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495680" y="4513320"/>
            <a:ext cx="1981440" cy="1892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590920" y="44956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648320" y="1523880"/>
            <a:ext cx="1752480" cy="17607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5334120" y="3352680"/>
            <a:ext cx="2971800" cy="117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858000" y="1523880"/>
            <a:ext cx="1603440" cy="16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23:45:40Z</dcterms:created>
  <dc:creator>Community ISD </dc:creator>
  <dc:description/>
  <dc:language>en-US</dc:language>
  <cp:lastModifiedBy>Community ISD </cp:lastModifiedBy>
  <dcterms:modified xsi:type="dcterms:W3CDTF">2003-04-18T00:59:58Z</dcterms:modified>
  <cp:revision>7</cp:revision>
  <dc:subject/>
  <dc:title>My Muscular System</dc:title>
</cp:coreProperties>
</file>